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8360" y="907920"/>
            <a:ext cx="820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31560"/>
            <a:ext cx="727236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FR –Aziende fino a 49 add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66680"/>
            <a:ext cx="815652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l 1° gennaio al 30 giugno 2007 il LAVORATOR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uò sceglier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d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tinare il TFR maturando a a forme di previdenza complementare contrattuali o individuali (es. polizze assicur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tenerlo in az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l lavorator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non scegli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SILENZIO ASSENSO), il flusso di TFR maturando è destinato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 Fondi di previdenza complementare contrattu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’INPS se non è prevista alcuna forma di previdenza complement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352680"/>
            <a:ext cx="7651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OMPENS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Da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riduzione dello 0,20% dei contributi  (destinati al Fondo di Garanzia IN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ducibilità fiscale dall’IRES del 6% del flusso di TFR destinato ai fondi pensione (riduzione  pari 0,14% del monte sala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Da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i aggiunge l’ ulteriore riduzione dello 0,19% dei contributi sociali per assegni familiari, maternità e disoccupazion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EFFETTI ECONOMICI PER LE IMPR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Fino ad un tasso bancario del 7,9%, le compensazioni per le imprese sono superiori ai maggiori oneri finanziari derivanti dalla destinazione del Tfr ai fondi.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n un tasso del 6%, il beneficio per  le imprese è pari a 0,13% del monte retrib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9120" y="1125360"/>
            <a:ext cx="8156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T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al 1° gennaio al 30 giugno 2007 il LAVORATORE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può sceglier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di destinare il TFR maturando a a forme di previdenza complementare contrattuali o individuali (es. polizze assicur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Tfr non destinato ai fondi (inoptato) viene trasferito obbligatoriamente ad un Fondo isitituito presso la Tesoreria Centrale dello Stato e gestito dall’ Inps. Tale misura è da considerare transitoria, poiché verrà riesaminata nel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666880"/>
            <a:ext cx="76518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OMPENSAZIO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Applicabili sia nel caso di destinazione ai fondi pensione che di trasferimento all’In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Da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riduzione dello 0,20% dei contributi (destinati a Fondo di Garanzia IN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ducibilità fiscale dall’IRES del 4% del Flusso di TFR (riduzione pari 0, 10% del monte sala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Da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i aggiunge l’ ulteriore riduzione dello 0,19% dei contributi sociali per assegni familiari, maternità e disoccupazion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EFFETTI ECONOMICI PER LE IMPR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Fino ad un tasso bancario del 7,2%, le compensazioni per le imprese sono superiori ai maggiori oneri finanziari derivanti dalla destinazione del Tfr ai fondi o all’ Inps.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n un tasso del 6%, il beneficio per  le imprese è pari a 0,10% del monte retribu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331560"/>
            <a:ext cx="727236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FR – Aziende con almeno 50 add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9:40:28Z</dcterms:created>
  <dc:creator>Luca Del Vecchio</dc:creator>
  <dc:description/>
  <dc:language>en-US</dc:language>
  <cp:lastModifiedBy>ESchett</cp:lastModifiedBy>
  <dcterms:modified xsi:type="dcterms:W3CDTF">2006-12-11T11:16:16Z</dcterms:modified>
  <cp:revision>50</cp:revision>
  <dc:subject/>
  <dc:title>Sanità</dc:title>
</cp:coreProperties>
</file>