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18160"/>
            <a:ext cx="543564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DB566C06-9B62-4B3C-A053-04C876D5271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BD51891F-4925-4940-BBE1-734B189A881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6ACB-D4C1-4467-A0F1-1254ADE0B7D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0B7C-CB51-4D7E-A7AB-FC7A4266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77724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44720" y="3764520"/>
            <a:ext cx="77724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D774-C9BB-454F-B5D1-5D1F3976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4472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740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BFB5-850F-424D-B2F6-AF73544F5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72720" y="136980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00360" y="136980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44720" y="376452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72720" y="376452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00360" y="376452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BC15-07F8-45F9-B625-2153F73C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5EAD-4515-4783-A314-11E0C0265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44720" y="136980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82C0-4953-40D7-B2BB-844F4886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0697-43FA-403C-9FEF-CD675297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3E46-90C0-44A7-BAEA-6AE77135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54EA-95E0-478C-9FDA-A06F8BEF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3BC1-64A5-40FD-9F27-6357884A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4472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CE18-B3ED-4A47-A308-A9D9747B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44720" y="136980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D437-4389-44AD-905C-0B5A19EE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2740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7BFF-8E10-4EBA-AA24-470414E3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4720" y="3764520"/>
            <a:ext cx="77724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2AE8-C442-48FF-8179-CE911620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77724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44720" y="3764520"/>
            <a:ext cx="77724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9F31-16DE-42EE-8B76-0AB29775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4472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2740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2F4B-D348-4E24-B755-97D89FA69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72720" y="136980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00360" y="136980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44720" y="376452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72720" y="376452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00360" y="376452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62F1-B57B-48B5-8687-B22B5F96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79F7-8DA6-49C0-802C-00EDD70A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9FC6-B62A-4B3D-8FE2-4E2BB406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29F6-3021-4F91-A968-AAFAA841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4560-BD57-473B-A24C-17510E9D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4472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03F3-F4CE-4576-A728-D24DB10E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740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11A6-1A50-4E5B-AC22-FAA3A92C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44720" y="3764520"/>
            <a:ext cx="77724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F564-35B2-4D62-88F1-16E9BC13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44720" y="136980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700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70000" indent="-2700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620720" indent="-27144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2700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2165400" indent="-270000">
              <a:spcBef>
                <a:spcPts val="275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2165400" indent="-270000">
              <a:spcBef>
                <a:spcPts val="275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665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1336-BD6E-426F-B8F9-E1AEB8C81C42}" type="datetime">
              <a:rPr b="0" lang="it-IT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2605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971640" y="1028880"/>
            <a:ext cx="7996320" cy="0"/>
          </a:xfrm>
          <a:prstGeom prst="line">
            <a:avLst/>
          </a:prstGeom>
          <a:ln w="1908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1109520" y="264960"/>
            <a:ext cx="8263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7"/>
          <p:cNvSpPr/>
          <p:nvPr/>
        </p:nvSpPr>
        <p:spPr>
          <a:xfrm>
            <a:off x="0" y="2819520"/>
            <a:ext cx="755640" cy="4038480"/>
          </a:xfrm>
          <a:prstGeom prst="rect">
            <a:avLst/>
          </a:prstGeom>
          <a:gradFill rotWithShape="0">
            <a:gsLst>
              <a:gs pos="0">
                <a:srgbClr val="00458a"/>
              </a:gs>
              <a:gs pos="100000">
                <a:srgbClr val="1f5c98"/>
              </a:gs>
            </a:gsLst>
            <a:lin ang="5400000"/>
          </a:gradFill>
          <a:ln w="936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9"/>
          <p:cNvSpPr/>
          <p:nvPr/>
        </p:nvSpPr>
        <p:spPr>
          <a:xfrm>
            <a:off x="0" y="0"/>
            <a:ext cx="755640" cy="2852640"/>
          </a:xfrm>
          <a:prstGeom prst="rect">
            <a:avLst/>
          </a:prstGeom>
          <a:noFill/>
          <a:ln w="936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8" descr="logo_mcc_orizzontale NO MCC"/>
          <p:cNvPicPr/>
          <p:nvPr/>
        </p:nvPicPr>
        <p:blipFill>
          <a:blip r:embed="rId2"/>
          <a:stretch/>
        </p:blipFill>
        <p:spPr>
          <a:xfrm>
            <a:off x="82440" y="-171360"/>
            <a:ext cx="563760" cy="32511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0" y="6151680"/>
            <a:ext cx="789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4CF4-AB73-40F4-B660-78686FF1BD67}" type="slidenum">
              <a:rPr b="1" lang="it-IT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5"/>
          <p:cNvSpPr/>
          <p:nvPr/>
        </p:nvSpPr>
        <p:spPr>
          <a:xfrm>
            <a:off x="1046160" y="3357720"/>
            <a:ext cx="7773840" cy="0"/>
          </a:xfrm>
          <a:prstGeom prst="line">
            <a:avLst/>
          </a:prstGeom>
          <a:ln w="936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6"/>
          <p:cNvSpPr/>
          <p:nvPr/>
        </p:nvSpPr>
        <p:spPr>
          <a:xfrm>
            <a:off x="1046160" y="4149720"/>
            <a:ext cx="7773840" cy="0"/>
          </a:xfrm>
          <a:prstGeom prst="line">
            <a:avLst/>
          </a:prstGeom>
          <a:ln w="936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2"/>
          <p:cNvSpPr/>
          <p:nvPr/>
        </p:nvSpPr>
        <p:spPr>
          <a:xfrm>
            <a:off x="0" y="0"/>
            <a:ext cx="755640" cy="6858000"/>
          </a:xfrm>
          <a:prstGeom prst="rect">
            <a:avLst/>
          </a:prstGeom>
          <a:gradFill rotWithShape="0">
            <a:gsLst>
              <a:gs pos="0">
                <a:srgbClr val="00458a"/>
              </a:gs>
              <a:gs pos="100000">
                <a:srgbClr val="1f5c98"/>
              </a:gs>
            </a:gsLst>
            <a:lin ang="5400000"/>
          </a:gradFill>
          <a:ln w="936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25"/>
          <p:cNvSpPr/>
          <p:nvPr/>
        </p:nvSpPr>
        <p:spPr>
          <a:xfrm>
            <a:off x="1042920" y="6165720"/>
            <a:ext cx="7774200" cy="0"/>
          </a:xfrm>
          <a:prstGeom prst="line">
            <a:avLst/>
          </a:prstGeom>
          <a:ln w="936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8" descr="logo_mcc_orizzontale NO MCC"/>
          <p:cNvPicPr/>
          <p:nvPr/>
        </p:nvPicPr>
        <p:blipFill>
          <a:blip r:embed="rId2"/>
          <a:stretch/>
        </p:blipFill>
        <p:spPr>
          <a:xfrm>
            <a:off x="361800" y="477720"/>
            <a:ext cx="4978440" cy="863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44720" y="136980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700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70000" indent="-2700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620720" indent="-27144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2700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2165400" indent="-270000">
              <a:spcBef>
                <a:spcPts val="275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2165400" indent="-270000">
              <a:spcBef>
                <a:spcPts val="275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104292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4F8F-82DE-4A25-8244-688607971990}" type="datetime">
              <a:rPr b="0" lang="it-IT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7652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436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E48E-77F0-430D-AB8B-D11B03F3409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egnaposto numero diapositiva 3"/>
          <p:cNvSpPr/>
          <p:nvPr/>
        </p:nvSpPr>
        <p:spPr>
          <a:xfrm>
            <a:off x="0" y="6151680"/>
            <a:ext cx="78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C39E-D0E6-4AF3-8334-A8F1D66BDF2C}" type="slidenum">
              <a:rPr b="1" lang="it-IT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826920" y="252360"/>
            <a:ext cx="8137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ttuazione del decreto 26 giugno 2012: le percentuali di copertura e l’importo massimo garant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0"/>
          <p:cNvSpPr/>
          <p:nvPr/>
        </p:nvSpPr>
        <p:spPr>
          <a:xfrm>
            <a:off x="971640" y="1105920"/>
            <a:ext cx="7993080" cy="2343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sp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Le percentuali di copertura e l’importo massimo garanti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asellaDiTesto 1"/>
          <p:cNvSpPr/>
          <p:nvPr/>
        </p:nvSpPr>
        <p:spPr>
          <a:xfrm>
            <a:off x="1001880" y="3716280"/>
            <a:ext cx="787860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 algn="just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Operazioni a favore delle piccole imprese dell’indotto di imprese in amministrazione straordinaria di durata non inferiore a 5 anni: quota di copertura 80% e importo massimo garantito € 1,5 ml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asellaDiTesto 39"/>
          <p:cNvSpPr/>
          <p:nvPr/>
        </p:nvSpPr>
        <p:spPr>
          <a:xfrm>
            <a:off x="1001880" y="1383480"/>
            <a:ext cx="7878600" cy="311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Arial"/>
              </a:rPr>
              <a:t>Operazioni di Garanzia</a:t>
            </a: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300" spc="-1" strike="noStrike">
                <a:solidFill>
                  <a:srgbClr val="000000"/>
                </a:solidFill>
                <a:latin typeface="Arial"/>
              </a:rPr>
              <a:t>diret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asellaDiTesto 40"/>
          <p:cNvSpPr/>
          <p:nvPr/>
        </p:nvSpPr>
        <p:spPr>
          <a:xfrm>
            <a:off x="1001880" y="4083840"/>
            <a:ext cx="7878600" cy="311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Arial"/>
              </a:rPr>
              <a:t>Operazioni di Controgaranz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asellaDiTesto 41"/>
          <p:cNvSpPr/>
          <p:nvPr/>
        </p:nvSpPr>
        <p:spPr>
          <a:xfrm>
            <a:off x="1001880" y="6453360"/>
            <a:ext cx="787860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 algn="just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Operazioni a favore delle piccole imprese dell’indotto di imprese in amministrazione straordinaria di durata non inferiore a 5 anni: quota di copertura 80% di 80% e importo massimo garantito € 1,5 ml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"/>
          <p:cNvPicPr/>
          <p:nvPr/>
        </p:nvPicPr>
        <p:blipFill>
          <a:blip r:embed="rId1"/>
          <a:stretch/>
        </p:blipFill>
        <p:spPr>
          <a:xfrm>
            <a:off x="1042920" y="1733400"/>
            <a:ext cx="7777080" cy="1982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"/>
          <p:cNvPicPr/>
          <p:nvPr/>
        </p:nvPicPr>
        <p:blipFill>
          <a:blip r:embed="rId2"/>
          <a:stretch/>
        </p:blipFill>
        <p:spPr>
          <a:xfrm>
            <a:off x="1042920" y="4437000"/>
            <a:ext cx="777708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09:41:48Z</dcterms:created>
  <dc:creator>ccara</dc:creator>
  <dc:description/>
  <dc:language>en-US</dc:language>
  <cp:lastModifiedBy>FBrunori</cp:lastModifiedBy>
  <cp:lastPrinted>2012-11-08T12:02:55Z</cp:lastPrinted>
  <dcterms:modified xsi:type="dcterms:W3CDTF">2012-12-05T18:38:12Z</dcterms:modified>
  <cp:revision>470</cp:revision>
  <dc:subject/>
  <dc:title>Diapositiva 1</dc:title>
</cp:coreProperties>
</file>