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43800" y="634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457200"/>
            <a:ext cx="8305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62000"/>
            <a:ext cx="2124000" cy="19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5280" y="530064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Verdana"/>
              </a:rPr>
              <a:t>Valorizzare le imprese eccellenti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508720" cy="51148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530064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Verdana"/>
              </a:rPr>
              <a:t>Valorizzare le imprese eccellenti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508720" cy="51148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535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Un premio ded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lle imprese associate al Sistema Conf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0200" y="414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er valorizzare e dare visibilità alle eccellenz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4560" y="148428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re riconosci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54280" y="2708280"/>
            <a:ext cx="6753960" cy="368280"/>
            <a:chOff x="1754280" y="2708280"/>
            <a:chExt cx="6753960" cy="368280"/>
          </a:xfrm>
        </p:grpSpPr>
        <p:sp>
          <p:nvSpPr>
            <p:cNvPr id="49" name=""/>
            <p:cNvSpPr/>
            <p:nvPr/>
          </p:nvSpPr>
          <p:spPr>
            <a:xfrm>
              <a:off x="2355120" y="2708280"/>
              <a:ext cx="61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Impresa campione della valorizzazione del terri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754280" y="278136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754280" y="3429000"/>
            <a:ext cx="6118560" cy="368280"/>
            <a:chOff x="1754280" y="3429000"/>
            <a:chExt cx="6118560" cy="3682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754280" y="3508560"/>
              <a:ext cx="2160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312280" y="3429000"/>
              <a:ext cx="55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Verdana"/>
                </a:rPr>
                <a:t>Impresa campione del Made in Italy nel mon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754280" y="4141800"/>
            <a:ext cx="4711320" cy="368280"/>
            <a:chOff x="1754280" y="4141800"/>
            <a:chExt cx="4711320" cy="3682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754280" y="4213080"/>
              <a:ext cx="21600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30920" y="4141800"/>
              <a:ext cx="42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Impresa campione dell’inno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16000" y="1982880"/>
            <a:ext cx="6753960" cy="368280"/>
            <a:chOff x="1116000" y="1982880"/>
            <a:chExt cx="6753960" cy="368280"/>
          </a:xfrm>
        </p:grpSpPr>
        <p:sp>
          <p:nvSpPr>
            <p:cNvPr id="59" name=""/>
            <p:cNvSpPr/>
            <p:nvPr/>
          </p:nvSpPr>
          <p:spPr>
            <a:xfrm>
              <a:off x="1716840" y="1982880"/>
              <a:ext cx="61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Impresa campione della valorizzazione del terri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116000" y="205596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93840" y="2781360"/>
            <a:ext cx="80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Riconoscere la capacità delle imprese di essere un attore importante del territorio di riferimento non solo come realtà economico produttiva, ma anche come soggetto attento alle esigenze sociali, ambientali e culturali delle istituzioni, dei lavoratori e dell’ecosistema in cui sono inse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72752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l premio si rivolge a tutte le imprese che hann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aputo creare in maniera consapevole relazioni significative con il sistema socio-economico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16000" y="1982880"/>
            <a:ext cx="6118560" cy="368280"/>
            <a:chOff x="1116000" y="1982880"/>
            <a:chExt cx="6118560" cy="368280"/>
          </a:xfrm>
        </p:grpSpPr>
        <p:sp>
          <p:nvSpPr>
            <p:cNvPr id="65" name=""/>
            <p:cNvSpPr/>
            <p:nvPr/>
          </p:nvSpPr>
          <p:spPr>
            <a:xfrm>
              <a:off x="1674000" y="1982880"/>
              <a:ext cx="55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Verdana"/>
                </a:rPr>
                <a:t>Impresa campione del Made in Italy nel mon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116000" y="205596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466560" y="278136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Premiare la promozione internazionale  del “Made in Italy”  realizzata mediante il successo di un prodotto, di un’idea o di un’iniziativa commer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9672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l premio si rivolge alle imprese che hanno saputo affermare l’immagine  del nostro Paese sui mercati internazionali  sia in termini di innovazione e organizzazione di risorse umane, che di penetrazione commer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16000" y="1982880"/>
            <a:ext cx="4711320" cy="368280"/>
            <a:chOff x="1116000" y="1982880"/>
            <a:chExt cx="4711320" cy="368280"/>
          </a:xfrm>
        </p:grpSpPr>
        <p:sp>
          <p:nvSpPr>
            <p:cNvPr id="71" name=""/>
            <p:cNvSpPr/>
            <p:nvPr/>
          </p:nvSpPr>
          <p:spPr>
            <a:xfrm>
              <a:off x="1592640" y="1982880"/>
              <a:ext cx="42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Impresa campione dell’inno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116000" y="205596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93840" y="278136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alutare la capacità delle imprese nello sviluppo e nella valorizzazione dell’inno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3967200"/>
            <a:ext cx="81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l premio si rivolge alle imprese che hanno saputo investire i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ricerca e inno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apitale tecnolog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apitale um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erformance dell’innov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619360"/>
            <a:ext cx="665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TORI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12 dicembre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21160" y="150984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La premi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3429000"/>
            <a:ext cx="66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Unione degli Industriali di To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09960" y="1600200"/>
            <a:ext cx="66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il Nucleo Marketing di Confindustr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le Associazioni del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il sito www.confindustria.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1240" y="4075200"/>
            <a:ext cx="6729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awards@confindustria.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Nucleo Marketing Confindustr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Viale dell’Astronomia, 30 – 00144 Ro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- via fax al numero 06-59155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17080" y="1509840"/>
            <a:ext cx="654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Le schede di adesione sono disponibili pres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90360" y="4005360"/>
            <a:ext cx="506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Le schede compilate vanno invi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71160" y="115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FINDUSTRIA PREMIA LE ECCELL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200" y="278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er inform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0200" y="4149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WW.CONFINDUSTRI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7721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wards@confindustri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0200" y="5445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Nucleo Marketing Conf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7:40:12Z</dcterms:created>
  <dc:creator>marketing1</dc:creator>
  <dc:description/>
  <dc:language>en-US</dc:language>
  <cp:lastModifiedBy>c</cp:lastModifiedBy>
  <dcterms:modified xsi:type="dcterms:W3CDTF">2006-09-05T08:21:35Z</dcterms:modified>
  <cp:revision>94</cp:revision>
  <dc:subject/>
  <dc:title>Presentazione di PowerPoint</dc:title>
</cp:coreProperties>
</file>